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6C4-0C72-4F51-AF65-0F0CC8D6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C6EA-42E0-4892-9758-AC321BD1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B496-CD2D-4C72-8A31-2130A9BA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CB73-CABC-4E61-A7C1-AB8722EB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EE0-8131-4BEF-8028-040E31A7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DA8-E6FE-41C5-A223-EDFBCF0D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170F-85CC-425F-9090-E20FE4ED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C3A-0943-4A84-A64E-E710BD0F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0F4-38C9-4D5E-9B86-68679705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D745-2F26-412C-B85B-C6E6DBC9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7E1-EFD6-4CA1-8830-3D5ACC08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604-EF77-45FE-B335-3DCB7233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B5B336-B395-446A-86F0-2E561884BE4F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13D7B0-7BA7-414B-8EC8-3FA4A7C4AF92}" type="slidenum">
              <a:rPr b="0" lang="pt-B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CEEB14-656C-46D7-A16E-D0B3CEE713F0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84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29C86A-0711-4882-A950-9127BB019BB4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26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92392A-102D-4147-8D3E-9375E8A9690B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6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9485F3-DF81-465B-8339-70DEE39A4F82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51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360375-C420-40FB-A0D9-9ACDDF9121E0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C850A4-640F-4546-A573-61136F00671A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9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739C7E-1322-4296-8C23-576802102820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132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41DCD5-5967-4F66-9CC4-2823AB4C5606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174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D83EF5-96FC-48A9-BB59-1666BF7367A0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216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E4D895-CD63-423A-BD3E-A91E92118CC4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25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D11AB9-0D3D-4325-A833-2D87160A2616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0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51727A-8DCB-4ACC-ACD0-7FB98D8497AA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42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5"/>
          <p:cNvSpPr/>
          <p:nvPr/>
        </p:nvSpPr>
        <p:spPr>
          <a:xfrm>
            <a:off x="611280" y="2421000"/>
            <a:ext cx="799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QUADRO DE REUNIÕES – C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2004 - 20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0" name=""/>
          <p:cNvGraphicFramePr/>
          <p:nvPr/>
        </p:nvGraphicFramePr>
        <p:xfrm>
          <a:off x="324000" y="1052640"/>
          <a:ext cx="8569080" cy="5400720"/>
        </p:xfrm>
        <a:graphic>
          <a:graphicData uri="http://schemas.openxmlformats.org/drawingml/2006/table">
            <a:tbl>
              <a:tblPr/>
              <a:tblGrid>
                <a:gridCol w="1325520"/>
                <a:gridCol w="595080"/>
                <a:gridCol w="433440"/>
                <a:gridCol w="409680"/>
                <a:gridCol w="409680"/>
                <a:gridCol w="409320"/>
                <a:gridCol w="409680"/>
                <a:gridCol w="409680"/>
                <a:gridCol w="409320"/>
                <a:gridCol w="409680"/>
                <a:gridCol w="409680"/>
                <a:gridCol w="409680"/>
                <a:gridCol w="409320"/>
                <a:gridCol w="409680"/>
                <a:gridCol w="409680"/>
                <a:gridCol w="409320"/>
                <a:gridCol w="890640"/>
              </a:tblGrid>
              <a:tr h="30312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4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çatu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raquar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ru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rulh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diaí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íli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asc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aci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dente Prudent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beirã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dr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Bernardo do Campo/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ão da Boa Vist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 Ri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s Camp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/Lest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o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ubaté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324000" y="1052640"/>
          <a:ext cx="8507160" cy="5545080"/>
        </p:xfrm>
        <a:graphic>
          <a:graphicData uri="http://schemas.openxmlformats.org/drawingml/2006/table">
            <a:tbl>
              <a:tblPr/>
              <a:tblGrid>
                <a:gridCol w="1315800"/>
                <a:gridCol w="590760"/>
                <a:gridCol w="4316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7880"/>
                <a:gridCol w="406440"/>
                <a:gridCol w="884160"/>
              </a:tblGrid>
              <a:tr h="30132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ace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s dos Goytacazes/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gem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manti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nópoli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que de Caxia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3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ernador Valadares/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iz de For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es Claro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erói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o Preto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ópoli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ços de Calda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de Janeiro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ófilo Otoni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6/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ab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lândi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ginh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/ 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a Redonda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395280" y="1197000"/>
          <a:ext cx="8589960" cy="5327640"/>
        </p:xfrm>
        <a:graphic>
          <a:graphicData uri="http://schemas.openxmlformats.org/drawingml/2006/table">
            <a:tbl>
              <a:tblPr/>
              <a:tblGrid>
                <a:gridCol w="1328760"/>
                <a:gridCol w="596880"/>
                <a:gridCol w="434880"/>
                <a:gridCol w="409680"/>
                <a:gridCol w="411120"/>
                <a:gridCol w="411120"/>
                <a:gridCol w="409680"/>
                <a:gridCol w="411120"/>
                <a:gridCol w="409680"/>
                <a:gridCol w="411120"/>
                <a:gridCol w="409680"/>
                <a:gridCol w="411120"/>
                <a:gridCol w="411120"/>
                <a:gridCol w="409680"/>
                <a:gridCol w="411120"/>
                <a:gridCol w="409320"/>
                <a:gridCol w="893880"/>
              </a:tblGrid>
              <a:tr h="33804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menau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cavel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xias do Sul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8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pecó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ciúma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itib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rianópolis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juí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inville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rin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ngá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o Hamburg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o Fund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lot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11/0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ta Gross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Alegre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a Mari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uguaian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1/0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135" descr="mps-cabecalho"/>
          <p:cNvPicPr/>
          <p:nvPr/>
        </p:nvPicPr>
        <p:blipFill>
          <a:blip r:embed="rId1"/>
          <a:stretch/>
        </p:blipFill>
        <p:spPr>
          <a:xfrm>
            <a:off x="644400" y="30870360"/>
            <a:ext cx="1362240" cy="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135" descr="mps-cabecalho"/>
          <p:cNvPicPr/>
          <p:nvPr/>
        </p:nvPicPr>
        <p:blipFill>
          <a:blip r:embed="rId2"/>
          <a:stretch/>
        </p:blipFill>
        <p:spPr>
          <a:xfrm>
            <a:off x="644400" y="31241880"/>
            <a:ext cx="1362240" cy="3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135" descr="mps-cabecalho"/>
          <p:cNvPicPr/>
          <p:nvPr/>
        </p:nvPicPr>
        <p:blipFill>
          <a:blip r:embed="rId3"/>
          <a:stretch/>
        </p:blipFill>
        <p:spPr>
          <a:xfrm>
            <a:off x="709560" y="31213440"/>
            <a:ext cx="136224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6" name=""/>
          <p:cNvGraphicFramePr/>
          <p:nvPr/>
        </p:nvGraphicFramePr>
        <p:xfrm>
          <a:off x="395280" y="1123920"/>
          <a:ext cx="8507520" cy="5329440"/>
        </p:xfrm>
        <a:graphic>
          <a:graphicData uri="http://schemas.openxmlformats.org/drawingml/2006/table">
            <a:tbl>
              <a:tblPr/>
              <a:tblGrid>
                <a:gridCol w="1316160"/>
                <a:gridCol w="590400"/>
                <a:gridCol w="43200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  <a:gridCol w="408240"/>
                <a:gridCol w="406440"/>
                <a:gridCol w="884160"/>
              </a:tblGrid>
              <a:tr h="30960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d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caju / S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reira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 Grande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uaru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ira de Santa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taleza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anhuns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bu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eratriz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ão Pessoa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3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do Norte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eió / 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soró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al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olina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fe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vador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tonio de Jesu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Luís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bral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5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esina / PI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1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da Conquist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7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1135" descr="mps-cabecalho"/>
          <p:cNvPicPr/>
          <p:nvPr/>
        </p:nvPicPr>
        <p:blipFill>
          <a:blip r:embed="rId1"/>
          <a:stretch/>
        </p:blipFill>
        <p:spPr>
          <a:xfrm>
            <a:off x="679320" y="31070520"/>
            <a:ext cx="136224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8" name=""/>
          <p:cNvGraphicFramePr/>
          <p:nvPr/>
        </p:nvGraphicFramePr>
        <p:xfrm>
          <a:off x="457200" y="1197000"/>
          <a:ext cx="8435880" cy="5111640"/>
        </p:xfrm>
        <a:graphic>
          <a:graphicData uri="http://schemas.openxmlformats.org/drawingml/2006/table">
            <a:tbl>
              <a:tblPr/>
              <a:tblGrid>
                <a:gridCol w="1305000"/>
                <a:gridCol w="585720"/>
                <a:gridCol w="426960"/>
                <a:gridCol w="403200"/>
                <a:gridCol w="403200"/>
                <a:gridCol w="403200"/>
                <a:gridCol w="403200"/>
                <a:gridCol w="403560"/>
                <a:gridCol w="403200"/>
                <a:gridCol w="403200"/>
                <a:gridCol w="403200"/>
                <a:gridCol w="403200"/>
                <a:gridCol w="403200"/>
                <a:gridCol w="401760"/>
                <a:gridCol w="403200"/>
                <a:gridCol w="403200"/>
                <a:gridCol w="877680"/>
              </a:tblGrid>
              <a:tr h="51120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te / Centro O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ápolis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ém / P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81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a Vista / R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 Grande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iabá / M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to Federal / DF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rados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iânia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apá / A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us / AM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7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mas / T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Velho / 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Branco / A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8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ff"/>
                </a:solidFill>
                <a:latin typeface="Times New Roman"/>
              </a:rPr>
              <a:t>Conselhos que não foram reativados por falta de representantes da</a:t>
            </a:r>
            <a:r>
              <a:rPr b="0" lang="pt-BR" sz="3300" spc="-1" strike="noStrike">
                <a:solidFill>
                  <a:srgbClr val="0000ff"/>
                </a:solidFill>
                <a:latin typeface="Times New Roman"/>
              </a:rPr>
              <a:t> Sociedade Civil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lm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uarulh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 algn="ctr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o ano de 2013 foi discutida no âmbito do CNP, com aprofundamento em grupo de trabalho, a proposta de 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nteprojeto de Lei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 fim de alterar a Lei nº 8.213, de 24 de julho de 1991, para dispor sobre o Conselho Nacional de Previdência – CNP gerando uma maior representatividade às Centrais Sindicais e Confederações Nacion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tualmente o retorno às discussões é amplamente pleiteado pelos representantes da UGT, CTB e CSB no Conselh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ítulo 1"/>
          <p:cNvSpPr/>
          <p:nvPr/>
        </p:nvSpPr>
        <p:spPr>
          <a:xfrm>
            <a:off x="457200" y="98100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4400" spc="-1" strike="noStrike" baseline="-25000">
                <a:solidFill>
                  <a:srgbClr val="000080"/>
                </a:solidFill>
                <a:latin typeface="Arial"/>
              </a:rPr>
              <a:t>RECOMPOSIÇÃO DO CONSEL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3640" y="1052280"/>
            <a:ext cx="8569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A partir da nova proposta, a representação do CNP terá 30 (trinta) membros titulares, send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o Governo Federal;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a sociedade civil, se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os aposentados e pensionist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os trabalhadores em atividade;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os empreg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brina Dias de Araujo Mendonca - MPS</dc:creator>
  <dc:description/>
  <dc:language>en-US</dc:language>
  <cp:lastModifiedBy>Silvana do Socorro Machado Rodrigues - MPS</cp:lastModifiedBy>
  <cp:lastPrinted>2015-03-12T22:39:06Z</cp:lastPrinted>
  <dcterms:modified xsi:type="dcterms:W3CDTF">2016-11-17T22:25:51Z</dcterms:modified>
  <cp:revision>259</cp:revision>
  <dc:subject/>
  <dc:title>Slide 1</dc:title>
</cp:coreProperties>
</file>